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D65-772D-4F3B-B1EE-3E5D88E2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63D-94FF-4253-AF5D-EF34AE8A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2B9-BA18-42B4-889D-31E958BD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4481-B10C-464B-95F4-3757401F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EC0A-BD66-449C-A54A-303855D7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D375-AC8A-4A9C-ABC4-CE3EC809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5A6A-B1C3-4C6C-BEFB-1A5B6A53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4DF2-D311-4A29-A1C0-CFEADB94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C96A-AF80-4ABA-9479-C23D58D7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E754-AE59-47B7-B713-6006715F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7B48-376F-4349-A549-23F378DD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882-B103-4B79-823F-D014E720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87B1-F4CA-4C97-82C5-42BBC913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F604-97A4-49C4-A157-D38089C6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0E5A-92F1-4A64-AEC5-F06DBB9F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2BA1-3190-45AD-B2F4-A14BDEB5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9FD7-9E52-451B-9F40-70457880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BE0-34F7-4B68-BC25-36A9F7C3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79C-453F-41BF-AA3D-49A23979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05B-CCC7-4492-BD2D-E0EE132E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9DC-E29F-4E9C-A073-194F083F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848-B08B-45C1-AC5F-7742858C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C68-11AC-4887-B097-C1A8ECDC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7FB-8076-488C-AED7-02CA8006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F2E450-8EA8-4CE0-9843-28AD270C082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9BAA9D-5E18-46CB-8C91-DFEC86FD6E6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Comic Sans MS"/>
              </a:rPr>
              <a:t>El texto argumentativ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Primera pa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eec94"/>
                </a:solidFill>
                <a:latin typeface="Comic Sans MS"/>
              </a:rPr>
              <a:t>REDACCIÓN DE TEXTOS ARGUMENTATIVO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Es frecuente el empleo de la primera persona gramatical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yo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 o 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nosotros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), dado que se expresa una opinión propi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Predominan los sustantivos abstractos.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Uso de verbos que expresan voluntad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gustar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); verbos de dicción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decir)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, y de pensamiento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creer)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Con frecuencia se emplea la interrogación retóric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Empleo de adjetivos valorativos y oraciones larga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¿Qué es una argumentación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8496360" cy="3313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Una argumentación es un texto que tiene como fin o bien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persuadir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al destinatario del punto de vista que se tiene sobre un asunto, o bien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convencerlo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de la veracidad o falsedad de una teoría, aportando en ambos casos razones o argumento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¿Cuándo y por qué argumentamos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textos argumentativos son de los más empleados por estudiantes, profesores, científicos, político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argumentación es la base del cono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No sería posible concebir una sociedad democrática sin que las personas pudiéramos defender nuestras opin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enemos que saber tratar y resolver conflicto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¿Qué propiedades textuales tienen los textos argumentativos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Adecuación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es muy importante conocer el contexto comunicativo y el tipo de argumentación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herencia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las ideas planteadas y los argumentos deben estar de acuerdo con un orden lógico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hesión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en el texto argumentativo es donde  se hace más necesario el empleo de conectores y organizadores textuale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STRUCTURA DEL TEXTO ARGUMENTATIV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2349360"/>
          <a:ext cx="8424720" cy="3418200"/>
        </p:xfrm>
        <a:graphic>
          <a:graphicData uri="http://schemas.openxmlformats.org/drawingml/2006/table">
            <a:tbl>
              <a:tblPr/>
              <a:tblGrid>
                <a:gridCol w="2664000"/>
                <a:gridCol w="2976480"/>
                <a:gridCol w="278424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SI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UERPO DE LA ARGUMENTACIÓ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CLUSIÓ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</a:tr>
              <a:tr h="26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 Idea funda-mental que se defiende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 Debe formular-se de forma cla-ra.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ción de argu-mentos para de-fender la idea planteada o refutar ideas contrarias a ella.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ierre del texto, tras el razona-miento lógico de-rivado de la argu-mentación prece-dente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200"/>
            </a:br>
            <a:r>
              <a:rPr b="0" lang="es-ES" sz="2800" spc="-1" strike="noStrike">
                <a:solidFill>
                  <a:srgbClr val="feec94"/>
                </a:solidFill>
                <a:latin typeface="Comic Sans MS"/>
              </a:rPr>
              <a:t>El argumento de autoridad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85988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Se recurre a testimonios o citas de personas, célebres en muchos casos, o especialistas sobre el tema en cuestión: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58920" y="3933720"/>
          <a:ext cx="7056360" cy="2087640"/>
        </p:xfrm>
        <a:graphic>
          <a:graphicData uri="http://schemas.openxmlformats.org/drawingml/2006/table">
            <a:tbl>
              <a:tblPr/>
              <a:tblGrid>
                <a:gridCol w="7056360"/>
              </a:tblGrid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es-E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Según reconocidos especialistas de nutrición de todo el mundo</a:t>
                      </a:r>
                      <a:r>
                        <a:rPr b="0" i="1" lang="es-E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, la dieta mediterránea, basada en el consumo de frutas, verduras, pescado, y aceite de oliva, es la mejor para llevar una vida sana y equilibra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600"/>
            </a:br>
            <a:r>
              <a:rPr b="0" lang="es-ES" sz="3200" spc="-1" strike="noStrike">
                <a:solidFill>
                  <a:srgbClr val="feec94"/>
                </a:solidFill>
                <a:latin typeface="Comic Sans MS"/>
              </a:rPr>
              <a:t>El argumento de la mayorí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57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rgumento muy empleado en el que se recurre al sentir de la mayoría de la gente o de la socie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2800" spc="-1" strike="noStrike">
                <a:solidFill>
                  <a:srgbClr val="009900"/>
                </a:solidFill>
                <a:latin typeface="Comic Sans MS"/>
              </a:rPr>
              <a:t>Todo el mundo piensa</a:t>
            </a:r>
            <a:r>
              <a:rPr b="0" i="1" lang="es-ES" sz="2800" spc="-1" strike="noStrike">
                <a:solidFill>
                  <a:srgbClr val="009900"/>
                </a:solidFill>
                <a:latin typeface="Comic Sans MS"/>
              </a:rPr>
              <a:t> que la idea puede funcionar.</a:t>
            </a: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6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argumento de la experienci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1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e basa en el empleo de los ejemplos, basados en la experiencia, para ilustrar lo que se quiere demostrar o de defender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2800" spc="-1" strike="noStrike">
                <a:solidFill>
                  <a:srgbClr val="009900"/>
                </a:solidFill>
                <a:latin typeface="Comic Sans MS"/>
              </a:rPr>
              <a:t>Yo misma, y algunos de mis familiares</a:t>
            </a:r>
            <a:r>
              <a:rPr b="0" i="1" lang="es-ES" sz="2800" spc="-1" strike="noStrike">
                <a:solidFill>
                  <a:srgbClr val="009900"/>
                </a:solidFill>
                <a:latin typeface="Comic Sans MS"/>
              </a:rPr>
              <a:t>, lo hemos probado y los resultados fueron excelente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L ORDEN DE LOS ARGUMENTO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s neces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vitar las divagaciones y los juegos de palab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Utilizar párrafos para distribuir y organizar cada uno de los argument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Relacionar los distintos párrafos con conectores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otar el texto de unidad y sentido global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2T07:59:25Z</dcterms:created>
  <dc:creator>Guillermo</dc:creator>
  <dc:description/>
  <dc:language>en-US</dc:language>
  <cp:lastModifiedBy>Guillermo</cp:lastModifiedBy>
  <dcterms:modified xsi:type="dcterms:W3CDTF">2014-07-19T12:44:52Z</dcterms:modified>
  <cp:revision>12</cp:revision>
  <dc:subject/>
  <dc:title>El texto argumentativo</dc:title>
</cp:coreProperties>
</file>